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4BC-DCCE-49D5-A9D8-9918C689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9D8F-927F-48EF-B8A4-54CF289B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2C6-43E3-4413-911F-2E31595F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E8D5-4F38-48B1-B6F1-911236CF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6AE-886C-47BA-9E2F-42D349B5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955-8269-459B-85CB-9E411624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560B-B373-4923-B8C5-333D14FE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2CA-22A2-4A07-9DD6-197D4636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DC03-3D40-4FAB-9A94-17619482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3AF1-BFAA-49AC-BD81-A9C76DED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C60-1D87-4CCE-8C55-BB74AB98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745-9FE8-4D1A-A33C-65D3B746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DA8E-11C3-4728-AABC-724FBD6E77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435680" y="1697040"/>
            <a:ext cx="576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cc0066"/>
                </a:solidFill>
                <a:uFillTx/>
                <a:latin typeface="Arial"/>
              </a:rPr>
              <a:t>МАТЕМАТИ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cc0066"/>
                </a:solidFill>
                <a:uFillTx/>
                <a:latin typeface="Arial"/>
              </a:rPr>
              <a:t>4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ffcc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628560" y="145080"/>
            <a:ext cx="43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66"/>
                </a:solidFill>
                <a:uFillTx/>
                <a:latin typeface="Arial"/>
              </a:rPr>
              <a:t>ТРИЗ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в начальных клас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-65880" y="549360"/>
            <a:ext cx="94651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Как правильно сказать: не вижу белый желток или не виж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белого желтк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33"/>
                </a:solidFill>
                <a:latin typeface="Arial"/>
              </a:rPr>
              <a:t>Сколько лет двадцатисемилетнему капитану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 полке стояли детские книжки. Подбежала Жучка, взяла одн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 потом еще три книжки. Сколько книг она прочитал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33"/>
                </a:solidFill>
                <a:latin typeface="Arial"/>
              </a:rPr>
              <a:t>Катится по столу колесо разноцветное. Один угол красны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33"/>
                </a:solidFill>
                <a:latin typeface="Arial"/>
              </a:rPr>
              <a:t>другой желтый, третий зеленый и четвертый си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33"/>
                </a:solidFill>
                <a:latin typeface="Arial"/>
              </a:rPr>
              <a:t>Когда колесо докатится до края стола, какой цвет мы увиди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шли две девочки в лес за грибами, а навстречу два мальчик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колько всего детей шли в лес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33"/>
                </a:solidFill>
                <a:latin typeface="Arial"/>
              </a:rPr>
              <a:t>Сидит на дереве волк. Идут два охотника, один с собак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33"/>
                </a:solidFill>
                <a:latin typeface="Arial"/>
              </a:rPr>
              <a:t>другой без собаки. Кто первый убьет волка?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Что будет с мухой, если она налетит на сосульку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817360" y="907920"/>
            <a:ext cx="49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Белых желтков не бываю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ба варианта ответа неправильные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799680" y="155736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Ответ - 27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496040" y="2565360"/>
            <a:ext cx="36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Собаки книжек не читаю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4650480" y="393372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У колеса нет углов)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773240" y="458136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В лес шли 2 девочк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448160" y="558972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Волки на деревьях не сидя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4500360" y="6237360"/>
            <a:ext cx="32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Зимой мухи не летаю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5018760" y="236520"/>
            <a:ext cx="36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(Интеллектуальная разминк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ffcc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477000" y="779400"/>
            <a:ext cx="8139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90033"/>
                </a:solidFill>
                <a:uFillTx/>
                <a:latin typeface="Arial"/>
              </a:rPr>
              <a:t>Лжезагадк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загадка, использующая пр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"ложная альтернатива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нимание слушателя уводится в сторо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 помощью альтернативы "или-или"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вершенно произвольно выраже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и один из предлагаемых отве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 является вер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4840" y="4863960"/>
            <a:ext cx="903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Кто написал "Мойдодыр" - Маршак или Михалко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то написал "Мойдодыр" - Маршак или Чуковски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80880" y="4156200"/>
            <a:ext cx="80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ля объяснения понятия детям предлагается отгад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ве аналогичные загадки (одна обычная, другая - "лже-") и срав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247840" y="-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704600" y="74520"/>
            <a:ext cx="449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Л Ж Е З А Г А Д К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6734880" y="6191280"/>
            <a:ext cx="180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990033"/>
                </a:solidFill>
                <a:latin typeface="Arial"/>
              </a:rPr>
              <a:t>(В первом случае – лжезагадк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75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75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ffcc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105480" y="115920"/>
            <a:ext cx="8871480" cy="51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енинг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учитель предлагает вразброс обычные загадк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жезагадки, дети должны их угадывать и указывать их ти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990033"/>
                </a:solidFill>
                <a:latin typeface="Arial"/>
              </a:rPr>
              <a:t>Сколько будет 8 и 4: 11 или 12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Что растет не березе - яблоки или груши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990033"/>
                </a:solidFill>
                <a:latin typeface="Arial"/>
              </a:rPr>
              <a:t>Слово "часы" - пишется как "чесы" или "чисы"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Кто быстрее плавает - утенок или цыпленок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990033"/>
                </a:solidFill>
                <a:latin typeface="Arial"/>
              </a:rPr>
              <a:t>Столица России - Москва или Минск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Какие звери живут в Африке - мамонты ил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динозавры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990033"/>
                </a:solidFill>
                <a:latin typeface="Arial"/>
              </a:rPr>
              <a:t>Сколько в минуте секунд - 10 или 100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3680" y="5656320"/>
            <a:ext cx="90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Обобщение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лжезагадка состоит из двух частей, вопро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(этим она похожа на обычную) и ответа, представляющ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собой два варианта на выбор, причем оба варианта неправи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ffcc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94320" y="326880"/>
            <a:ext cx="907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Работа в группах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 - закрепление материала и тренировка в составлении лжезагад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ой группе указывается тема, на которую должны быть придума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жезагад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проводится с точки зрения правильности составлени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ия теме, учитывая оригинальность загад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ы тем для работы в группах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ивотные, раст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ловек, продукты, транспорт, сказки, школа, наш г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-28080" y="4365720"/>
            <a:ext cx="918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Подведение итогов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можно вспомнить уроки по теме «Язык и фантазия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то больше всего запомнилось? Что было наиболее интересны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то не понравилось на уроках? Какие пожел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5:16:14Z</dcterms:created>
  <dc:creator>PK-07</dc:creator>
  <dc:description/>
  <dc:language>en-US</dc:language>
  <cp:lastModifiedBy>PK-22</cp:lastModifiedBy>
  <dcterms:modified xsi:type="dcterms:W3CDTF">2012-01-23T05:54:30Z</dcterms:modified>
  <cp:revision>8</cp:revision>
  <dc:subject/>
  <dc:title>Слайд 1</dc:title>
</cp:coreProperties>
</file>